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D9C9-E5AB-459B-B248-8AC94E9B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1BDC-C0C3-474C-912F-AC2F6E9C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DD4E-0E75-41DA-B781-F7F8BCA3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E686-5A93-4381-961D-97192902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575A-4BF4-48E3-856A-73BADDA7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95D9-3771-4F42-B9AE-648D47AA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9AA3-504A-4CAC-A2D5-CC692CE2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3512-C994-4ECB-B426-81B9B60B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3498-8395-430B-BACB-07D11F8A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BBAA-7D36-4F46-8498-974DBD01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164D-6B12-40BA-904E-162C74E3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816E-5D76-4EE1-A515-A4C558D5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7298-6D13-42A0-9D54-C7B39C3D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412E-B999-49EB-A91F-8AA95DC5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1218-A8B0-4818-B284-301F245C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8EE2-50BD-4CAE-A416-5F33B3F9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766E-E15B-440C-8724-76E366E5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2DBC-BA64-41AF-98BF-53251688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3F2C-5AF8-4E04-877D-DE1EA031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BD49-B765-4E83-BF35-F6B67C90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724D-815E-4DDE-B398-AD974475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5E35-0AB2-43E0-9338-2BF0EE11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908C-3953-444D-AA9C-B6BB317B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E8EE-790C-42B0-ADB0-5A250274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3134-1F33-4FE7-9387-C3BDFA5BB18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2A2F-FD92-4AB8-BFA1-3197B48712E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2880" y="1971360"/>
            <a:ext cx="6400800" cy="3632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edia educational and technological innovations used in education</a:t>
            </a:r>
            <a:br>
              <a:rPr sz="4400"/>
            </a:b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h aid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2270160"/>
            <a:ext cx="3657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math aids help the students gather the basic knowledge about the counting, primary shapes, reading the time from a clock and other similar tasks that are extremely useful and required in our everyday liv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SMART Board 600i Interactive Whiteboard System photo."/>
          <p:cNvPicPr/>
          <p:nvPr/>
        </p:nvPicPr>
        <p:blipFill>
          <a:blip r:embed="rId1"/>
          <a:stretch/>
        </p:blipFill>
        <p:spPr>
          <a:xfrm>
            <a:off x="4419720" y="1905120"/>
            <a:ext cx="4047840" cy="40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5120" y="7621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periment aid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3533760" cy="3533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09480" y="2422440"/>
            <a:ext cx="3810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experiment aids are designed with the primary intention of making the whole learning process a fun and pleasurable experience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helps the students enjoy their studies and not consider it as a burden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5120" y="6091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ducational ai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838320" cy="3838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1965240"/>
            <a:ext cx="4267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educational aids help the students learning about new things and increasing their basket of knowledge but in an interesting and innovative way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educational comes on various topics and subjects and when used, these educational aids facilitate a detailed understanding of the topic without having to go through a pile of books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5120" y="6091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ience Lab aid</a:t>
            </a:r>
            <a:r>
              <a:rPr b="0" lang="ar-SA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419720" y="1762200"/>
            <a:ext cx="3952800" cy="41050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4920" y="2313000"/>
            <a:ext cx="4190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ience lab aid used in the different science labs of schools, colleges, institutions and even hospitals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science lab aids comprise of all the basic scientific measuring and testing instruments required to carry on the necessary tests and research wo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eographical Apparat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48320" y="177156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85800" y="1828800"/>
            <a:ext cx="3733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ographical Apparatus help in providing the basic geographical knowledge</a:t>
            </a:r>
            <a:r>
              <a:rPr b="0" lang="ar-SA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se geographical apparatus such as the globe and others help impart knowledge such as the location of various countries on the planet, the planetary position and other such relevant informatio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8:50:51Z</dcterms:created>
  <dc:creator>FF</dc:creator>
  <dc:description/>
  <dc:language>en-US</dc:language>
  <cp:lastModifiedBy>FF</cp:lastModifiedBy>
  <dcterms:modified xsi:type="dcterms:W3CDTF">2010-01-18T19:42:56Z</dcterms:modified>
  <cp:revision>2</cp:revision>
  <dc:subject/>
  <dc:title> media educational and technological innovations used in educati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